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78F-85F7-4870-9EE2-68813985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609-6CC5-4B64-B411-D454314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2FA-07C9-483E-B503-9F7B4BB0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970-2FF8-4686-87C9-2241F7B5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771-7759-4E9D-A41C-2A8FF60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D54-ED81-40C1-AE1B-D4D87D7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0EE-0218-4FEA-9EAA-D2AA97D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0EA-4826-4DFF-902F-0AE031E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D1E-8104-4563-837C-46896A9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81D-A8E2-49BE-A4E0-5F04952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BA7-4903-4813-AC88-B2746BE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364-8312-4DB1-B0F2-3988D33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8384-75D9-41D8-8F2C-ACCD5C48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as homework questions – answer at least one of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) Discuss the impact of Web 2.0 o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) What effect has new technology had on the music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) Discuss the ways in which media products are produced and distributed to international, national and local audiences withi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) How are media products marketed and distributed within the music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) How has the audience relationship with the music industry changed over recent yea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54:11Z</dcterms:created>
  <dc:creator>administrator</dc:creator>
  <dc:description/>
  <dc:language>en-US</dc:language>
  <cp:lastModifiedBy>maninder singh</cp:lastModifiedBy>
  <dcterms:modified xsi:type="dcterms:W3CDTF">2010-12-13T17:21:09Z</dcterms:modified>
  <cp:revision>2</cp:revision>
  <dc:subject/>
  <dc:title>Half term homework – answer one of these questions</dc:title>
</cp:coreProperties>
</file>